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D6A1-A623-40AA-8A7A-84BF080A8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094D-4A26-4B2A-B466-14DE54326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29AC-91A3-49AF-8A1B-5225E8870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AD08-86DF-43DF-9882-680488FFB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ACD8-D1DC-421D-BB80-240A5B58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4101-DB05-442E-8349-34EA427F9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2116-01E9-4371-855C-B7FADC7AA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F52B-2C09-43AD-8E4C-3AB9B6CBF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95BD-4A4E-4D22-AC4D-0B5C2877B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DD66-FBC5-409B-92A4-166DC249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0BC0-B62C-4B88-97CF-A6C664F9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2236-F1BD-4704-B02C-427155E9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B9F05-B4B5-4035-8A63-4BC4B1084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xis Inter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re you taking no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ero Metho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#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2x –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ace y with z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  0 = 2x –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ace x with z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 y = 2(0) – 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 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648320" y="18432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ero Metho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x + 6y =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ace the y with z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    2x + 6(0) =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=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ace the x with z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    2(0) + 6y =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48320" y="18432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ero Metho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#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x = 2y –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ace the y with z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 6x = 2(0) –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=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ace the x with z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 6(0) = 2y –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48320" y="18432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ero Metho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#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½ x +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ace the y with z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    0= ½ x +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=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ace the x with z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  y = ½ (0) 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48320" y="18432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02:57:33Z</dcterms:created>
  <dc:creator>Preferred Customer</dc:creator>
  <dc:description/>
  <dc:language>en-US</dc:language>
  <cp:lastModifiedBy>Preferred Customer</cp:lastModifiedBy>
  <dcterms:modified xsi:type="dcterms:W3CDTF">2007-12-11T03:05:45Z</dcterms:modified>
  <cp:revision>2</cp:revision>
  <dc:subject/>
  <dc:title>Axis Intercepts</dc:title>
</cp:coreProperties>
</file>